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7A9A-C574-4FEB-9284-D5B6A20DB3E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of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gust 27th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hr Diagrams of 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sson 3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ugust 27th, 201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ions of the first 20 ions of 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aw the ions of the first 20 ions of the periodic tab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egativ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le gases do not form compounds because they have 8 electrons in their outer orbit (shell). This electron arrangement makes them very stable and so they do not rea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sitive and Negative 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ble gases do not form compounds because they have 8 electrons in their outer orbit (shell). This electron arrangement makes them very stable and so they do not react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elements form compounds, changes occur in the arrangement of electrons in the outer orbit. – Electrons are gained or lost so that element can have a stable electron arrangement of the closest noble gas. (In other words it will completely fill their outer shell with elec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en elements form compounds, changes occur in the arrangement of electrons in the outer orbit. – Electrons are gained or lost so that element can have a stable electron arrangement of the closest noble gas. (In other words it will completely fill their outer shell with electrons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for a compound to be stable, it must have a completely filled outer electron shell– aka (stable oct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order for a compound to be stable, it must have a completely filled outer electron shell– aka (stable octet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ngement of outer shell electrons of metals and non-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rrangement of outer shell electrons of metals and non-meta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 to have 1, 2, or 3 electrons in the outer orbits (shel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ose electrons when they combine with other elements to form positive ions (cations) : note the t in the word think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ose electrons, thus they have the same electron arrangement as the Noble gas a row abov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etal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nd to have 1, 2, or 3 electrons in the outer orbits (shells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ose electrons when they combine with other elements to form positive ions (cations) : note the t in the word think +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ose electrons, thus they have the same electron arrangement as the Noble gas a row above the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Metal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odium: Na   Na+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Metal 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Sodium: Na   Na+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N 12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P 1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metals – Tend to have 4, 5, 6, or 7 electrons in their outer orbits (shells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ain electrons to form negative ions (ani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ain electrons, thus they have the same electron arrangement as the Noble gas in the same ro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n-Meta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n-metals – Tend to have 4, 5, 6, or 7 electrons in their outer orbits (shells)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gain electrons to form negative ions (anions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gain electrons, thus they have the same electron arrangement as the Noble gas in the same row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: F  F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luorine : F  F-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 10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 1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D2DA-50D5-4993-8D18-F8F08CF6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228-F63E-4555-AAEA-BCCAB1AF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B12-C28C-4BB9-A66F-E9A31148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C66-D563-4CFA-9FE0-D5014D2E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CF25-7F52-44F4-AEC5-A0C57DC5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DD1F-BBC1-4BA7-90E0-EF2EE472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423E-2250-4017-A995-0C933F25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AB96-D82C-4930-BF66-B313EB40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E362-0EED-4A53-B55D-459C353D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44C6-5009-401D-8076-42C2A62C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0841-9FE0-48EC-808C-8A790FB3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B27A-B4CC-4844-8CB6-9F82AA89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1FA0-B395-45C0-804A-B5F41E5C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FA18-ECAE-4553-9623-368B7843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30C3-D8E5-48FB-8D01-7AA33205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0098-C4F9-478A-827D-0D48F921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E611-B917-4C06-BC19-05852EA6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1D8-1D6D-4B7A-AE82-F420E615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6EB-BF1F-4905-9DCC-69D501AE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145-4F8E-44FA-89F0-D6B1407C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26DC-DD18-4B48-BA74-D547BF89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63FC-A115-41CA-BD5C-4014E941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7C1-B08A-4B49-92EA-05586FC9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131-2C77-475E-B13A-9E3181EC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BD64-3508-4627-8611-CACA487BFAF9}" type="datetime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1FC3-0A43-4FF1-AD78-F228DCDF2BA5}" type="slidenum">
              <a: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C4A9-3E37-461C-BF3C-5AA804B76981}" type="datetime">
              <a: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9EC4-BC8C-4FEE-BEBF-EBA52FD286CF}" type="slidenum"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Bohr Diagrams of 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Lesson 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August 27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th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, 201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Draw the ions of the first 20 ions of the periodic ta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Positive and Negative 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785960"/>
            <a:ext cx="795816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Noble gases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do not form compounds because they have 8 electrons in their outer orbit (shell). This electron arrangement makes them very stable and so they do not reac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2428920" y="3929040"/>
            <a:ext cx="3785400" cy="2785680"/>
            <a:chOff x="2428920" y="3929040"/>
            <a:chExt cx="3785400" cy="2785680"/>
          </a:xfrm>
        </p:grpSpPr>
        <p:sp>
          <p:nvSpPr>
            <p:cNvPr id="137" name="Oval 4"/>
            <p:cNvSpPr/>
            <p:nvPr/>
          </p:nvSpPr>
          <p:spPr>
            <a:xfrm>
              <a:off x="2570040" y="4064040"/>
              <a:ext cx="3460680" cy="254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" name="Oval 5"/>
            <p:cNvSpPr/>
            <p:nvPr/>
          </p:nvSpPr>
          <p:spPr>
            <a:xfrm>
              <a:off x="2916000" y="4543560"/>
              <a:ext cx="2747520" cy="166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" name="Oval 6"/>
            <p:cNvSpPr/>
            <p:nvPr/>
          </p:nvSpPr>
          <p:spPr>
            <a:xfrm>
              <a:off x="3525840" y="4872600"/>
              <a:ext cx="1506960" cy="91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" name="Text Box 7"/>
            <p:cNvSpPr/>
            <p:nvPr/>
          </p:nvSpPr>
          <p:spPr>
            <a:xfrm>
              <a:off x="3786120" y="4940640"/>
              <a:ext cx="1017360" cy="72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 10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10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>
              <a:off x="4075560" y="6012720"/>
              <a:ext cx="3704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" name="Oval 9"/>
            <p:cNvSpPr/>
            <p:nvPr/>
          </p:nvSpPr>
          <p:spPr>
            <a:xfrm>
              <a:off x="3708000" y="3929040"/>
              <a:ext cx="36720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" name="Oval 10"/>
            <p:cNvSpPr/>
            <p:nvPr/>
          </p:nvSpPr>
          <p:spPr>
            <a:xfrm>
              <a:off x="4442760" y="3929040"/>
              <a:ext cx="36720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Oval 11"/>
            <p:cNvSpPr/>
            <p:nvPr/>
          </p:nvSpPr>
          <p:spPr>
            <a:xfrm>
              <a:off x="5847120" y="5067720"/>
              <a:ext cx="367200" cy="285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" name="Oval 12"/>
            <p:cNvSpPr/>
            <p:nvPr/>
          </p:nvSpPr>
          <p:spPr>
            <a:xfrm>
              <a:off x="5847120" y="5500800"/>
              <a:ext cx="36720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" name="Oval 13"/>
            <p:cNvSpPr/>
            <p:nvPr/>
          </p:nvSpPr>
          <p:spPr>
            <a:xfrm>
              <a:off x="2428920" y="4992480"/>
              <a:ext cx="36684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" name="Oval 14"/>
            <p:cNvSpPr/>
            <p:nvPr/>
          </p:nvSpPr>
          <p:spPr>
            <a:xfrm>
              <a:off x="2428920" y="5500800"/>
              <a:ext cx="3668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Oval 15"/>
            <p:cNvSpPr/>
            <p:nvPr/>
          </p:nvSpPr>
          <p:spPr>
            <a:xfrm>
              <a:off x="3873960" y="6429960"/>
              <a:ext cx="3704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Oval 16"/>
            <p:cNvSpPr/>
            <p:nvPr/>
          </p:nvSpPr>
          <p:spPr>
            <a:xfrm>
              <a:off x="4524120" y="6429960"/>
              <a:ext cx="3668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Oval 17"/>
            <p:cNvSpPr/>
            <p:nvPr/>
          </p:nvSpPr>
          <p:spPr>
            <a:xfrm>
              <a:off x="4156560" y="4475520"/>
              <a:ext cx="367200" cy="285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When elements form compounds, changes occur in the arrangement of electrons in the outer orbit. – Electrons are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gained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or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lost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so that element can have a stable electron arrangement of the closest noble gas. (In other words it will completely fill their outer shell with electrons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In order for a compound to be stable, it must have a completely filled outer electron shell– aka (stable octet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aeaea"/>
                </a:solidFill>
                <a:latin typeface="Times New Roman"/>
              </a:rPr>
              <a:t>Arrangement of outer shell electrons of metals and non-metal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end to have 1, 2, or 3 electrons in the outer orbits (shell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lose electrons when they combine with other elements to form positive ions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cations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: note the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in the word think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lose electrons, thus they have the same electron arrangement as the Noble gas a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row above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Metal 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Sodium: Na  </a:t>
            </a:r>
            <a:r>
              <a:rPr b="0" lang="en-CA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Na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6" name="Group 2"/>
          <p:cNvGrpSpPr/>
          <p:nvPr/>
        </p:nvGrpSpPr>
        <p:grpSpPr>
          <a:xfrm>
            <a:off x="285840" y="3857760"/>
            <a:ext cx="2928960" cy="2357280"/>
            <a:chOff x="285840" y="3857760"/>
            <a:chExt cx="2928960" cy="2357280"/>
          </a:xfrm>
        </p:grpSpPr>
        <p:sp>
          <p:nvSpPr>
            <p:cNvPr id="167" name="Oval 3"/>
            <p:cNvSpPr/>
            <p:nvPr/>
          </p:nvSpPr>
          <p:spPr>
            <a:xfrm>
              <a:off x="285840" y="3857760"/>
              <a:ext cx="2928960" cy="235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Oval 4"/>
            <p:cNvSpPr/>
            <p:nvPr/>
          </p:nvSpPr>
          <p:spPr>
            <a:xfrm>
              <a:off x="511560" y="4096800"/>
              <a:ext cx="2405520" cy="193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Oval 5"/>
            <p:cNvSpPr/>
            <p:nvPr/>
          </p:nvSpPr>
          <p:spPr>
            <a:xfrm>
              <a:off x="752400" y="4461480"/>
              <a:ext cx="1909800" cy="126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>
              <a:off x="1176120" y="4710960"/>
              <a:ext cx="1047240" cy="69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1418040" y="4858920"/>
              <a:ext cx="707040" cy="37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7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 12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11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2" name="Oval 8"/>
            <p:cNvSpPr/>
            <p:nvPr/>
          </p:nvSpPr>
          <p:spPr>
            <a:xfrm>
              <a:off x="1557000" y="4366080"/>
              <a:ext cx="25524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" name="Oval 9"/>
            <p:cNvSpPr/>
            <p:nvPr/>
          </p:nvSpPr>
          <p:spPr>
            <a:xfrm>
              <a:off x="1557000" y="5576760"/>
              <a:ext cx="25524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Oval 10"/>
            <p:cNvSpPr/>
            <p:nvPr/>
          </p:nvSpPr>
          <p:spPr>
            <a:xfrm>
              <a:off x="1303920" y="3994200"/>
              <a:ext cx="25416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5" name="Oval 11"/>
            <p:cNvSpPr/>
            <p:nvPr/>
          </p:nvSpPr>
          <p:spPr>
            <a:xfrm>
              <a:off x="1812600" y="399420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6" name="Oval 12"/>
            <p:cNvSpPr/>
            <p:nvPr/>
          </p:nvSpPr>
          <p:spPr>
            <a:xfrm>
              <a:off x="2788920" y="4858920"/>
              <a:ext cx="254880" cy="215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Oval 13"/>
            <p:cNvSpPr/>
            <p:nvPr/>
          </p:nvSpPr>
          <p:spPr>
            <a:xfrm>
              <a:off x="2788920" y="5188320"/>
              <a:ext cx="25488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8" name="Oval 14"/>
            <p:cNvSpPr/>
            <p:nvPr/>
          </p:nvSpPr>
          <p:spPr>
            <a:xfrm>
              <a:off x="412200" y="480276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9" name="Oval 15"/>
            <p:cNvSpPr/>
            <p:nvPr/>
          </p:nvSpPr>
          <p:spPr>
            <a:xfrm>
              <a:off x="412200" y="5188320"/>
              <a:ext cx="25488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0" name="Oval 16"/>
            <p:cNvSpPr/>
            <p:nvPr/>
          </p:nvSpPr>
          <p:spPr>
            <a:xfrm>
              <a:off x="1418040" y="589608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" name="Oval 17"/>
            <p:cNvSpPr/>
            <p:nvPr/>
          </p:nvSpPr>
          <p:spPr>
            <a:xfrm>
              <a:off x="1869840" y="5896080"/>
              <a:ext cx="25524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2" name="Oval 18"/>
            <p:cNvSpPr/>
            <p:nvPr/>
          </p:nvSpPr>
          <p:spPr>
            <a:xfrm>
              <a:off x="2662200" y="409788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cxnSp>
        <p:nvCxnSpPr>
          <p:cNvPr id="183" name="AutoShape 19"/>
          <p:cNvCxnSpPr/>
          <p:nvPr/>
        </p:nvCxnSpPr>
        <p:spPr>
          <a:xfrm flipV="1">
            <a:off x="2928600" y="3642840"/>
            <a:ext cx="1072440" cy="504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4" name="Oval 20"/>
          <p:cNvSpPr/>
          <p:nvPr/>
        </p:nvSpPr>
        <p:spPr>
          <a:xfrm>
            <a:off x="4071960" y="3500280"/>
            <a:ext cx="144360" cy="1508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5" name="Group 35"/>
          <p:cNvGrpSpPr/>
          <p:nvPr/>
        </p:nvGrpSpPr>
        <p:grpSpPr>
          <a:xfrm>
            <a:off x="5500800" y="3857760"/>
            <a:ext cx="2642760" cy="2356920"/>
            <a:chOff x="5500800" y="3857760"/>
            <a:chExt cx="2642760" cy="2356920"/>
          </a:xfrm>
        </p:grpSpPr>
        <p:sp>
          <p:nvSpPr>
            <p:cNvPr id="186" name="Oval 36"/>
            <p:cNvSpPr/>
            <p:nvPr/>
          </p:nvSpPr>
          <p:spPr>
            <a:xfrm>
              <a:off x="5599440" y="3971880"/>
              <a:ext cx="2415960" cy="215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7" name="Oval 37"/>
            <p:cNvSpPr/>
            <p:nvPr/>
          </p:nvSpPr>
          <p:spPr>
            <a:xfrm>
              <a:off x="5841000" y="4377600"/>
              <a:ext cx="1917720" cy="140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8" name="Oval 38"/>
            <p:cNvSpPr/>
            <p:nvPr/>
          </p:nvSpPr>
          <p:spPr>
            <a:xfrm>
              <a:off x="6266880" y="4656240"/>
              <a:ext cx="1051920" cy="77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9" name="Oval 40"/>
            <p:cNvSpPr/>
            <p:nvPr/>
          </p:nvSpPr>
          <p:spPr>
            <a:xfrm>
              <a:off x="6650280" y="5621040"/>
              <a:ext cx="257400" cy="239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0" name="Oval 41"/>
            <p:cNvSpPr/>
            <p:nvPr/>
          </p:nvSpPr>
          <p:spPr>
            <a:xfrm>
              <a:off x="6395040" y="385776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1" name="Oval 42"/>
            <p:cNvSpPr/>
            <p:nvPr/>
          </p:nvSpPr>
          <p:spPr>
            <a:xfrm>
              <a:off x="6906600" y="385776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" name="Oval 43"/>
            <p:cNvSpPr/>
            <p:nvPr/>
          </p:nvSpPr>
          <p:spPr>
            <a:xfrm>
              <a:off x="7886160" y="4821120"/>
              <a:ext cx="25740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" name="Oval 44"/>
            <p:cNvSpPr/>
            <p:nvPr/>
          </p:nvSpPr>
          <p:spPr>
            <a:xfrm>
              <a:off x="7886160" y="51876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" name="Oval 45"/>
            <p:cNvSpPr/>
            <p:nvPr/>
          </p:nvSpPr>
          <p:spPr>
            <a:xfrm>
              <a:off x="5500800" y="47574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5" name="Oval 46"/>
            <p:cNvSpPr/>
            <p:nvPr/>
          </p:nvSpPr>
          <p:spPr>
            <a:xfrm>
              <a:off x="5500800" y="51876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6" name="Oval 47"/>
            <p:cNvSpPr/>
            <p:nvPr/>
          </p:nvSpPr>
          <p:spPr>
            <a:xfrm>
              <a:off x="6510600" y="597420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Oval 48"/>
            <p:cNvSpPr/>
            <p:nvPr/>
          </p:nvSpPr>
          <p:spPr>
            <a:xfrm>
              <a:off x="6964560" y="597420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" name="Oval 49"/>
            <p:cNvSpPr/>
            <p:nvPr/>
          </p:nvSpPr>
          <p:spPr>
            <a:xfrm>
              <a:off x="6707160" y="43182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9" name="Straight Connector 53"/>
          <p:cNvSpPr/>
          <p:nvPr/>
        </p:nvSpPr>
        <p:spPr>
          <a:xfrm flipH="1">
            <a:off x="5000760" y="3571920"/>
            <a:ext cx="6429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Straight Connector 55"/>
          <p:cNvSpPr/>
          <p:nvPr/>
        </p:nvSpPr>
        <p:spPr>
          <a:xfrm>
            <a:off x="5000760" y="3571920"/>
            <a:ext cx="71280" cy="2714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Straight Connector 57"/>
          <p:cNvSpPr/>
          <p:nvPr/>
        </p:nvSpPr>
        <p:spPr>
          <a:xfrm>
            <a:off x="5072040" y="6286680"/>
            <a:ext cx="714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Straight Connector 58"/>
          <p:cNvSpPr/>
          <p:nvPr/>
        </p:nvSpPr>
        <p:spPr>
          <a:xfrm>
            <a:off x="8286840" y="3571920"/>
            <a:ext cx="71280" cy="2714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Straight Connector 59"/>
          <p:cNvSpPr/>
          <p:nvPr/>
        </p:nvSpPr>
        <p:spPr>
          <a:xfrm flipH="1">
            <a:off x="7643880" y="3571920"/>
            <a:ext cx="6429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Straight Connector 60"/>
          <p:cNvSpPr/>
          <p:nvPr/>
        </p:nvSpPr>
        <p:spPr>
          <a:xfrm>
            <a:off x="7643880" y="6286680"/>
            <a:ext cx="714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Straight Connector 61"/>
          <p:cNvSpPr/>
          <p:nvPr/>
        </p:nvSpPr>
        <p:spPr>
          <a:xfrm flipH="1">
            <a:off x="8501040" y="3714840"/>
            <a:ext cx="357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Straight Connector 63"/>
          <p:cNvSpPr/>
          <p:nvPr/>
        </p:nvSpPr>
        <p:spPr>
          <a:xfrm>
            <a:off x="8643960" y="3571920"/>
            <a:ext cx="0" cy="285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07" name="AutoShape 19"/>
          <p:cNvCxnSpPr/>
          <p:nvPr/>
        </p:nvCxnSpPr>
        <p:spPr>
          <a:xfrm flipV="1">
            <a:off x="3428640" y="5071320"/>
            <a:ext cx="1215000" cy="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8" name="Text Box 7"/>
          <p:cNvSpPr/>
          <p:nvPr/>
        </p:nvSpPr>
        <p:spPr>
          <a:xfrm>
            <a:off x="6372360" y="4869000"/>
            <a:ext cx="70776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 12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 1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eaeaea"/>
                </a:solidFill>
                <a:latin typeface="Times New Roman"/>
              </a:rPr>
              <a:t>Non-metals –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Tend to have 4, 5, 6, or 7 electrons in their outer orbits (shells)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gain electrons to form negative ions (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anions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gain electrons, thus they have the same electron arrangement as the Noble gas in the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same row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Fluorine : F </a:t>
            </a:r>
            <a:r>
              <a:rPr b="0" lang="en-CA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F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428760" y="3571920"/>
            <a:ext cx="2408040" cy="2415600"/>
            <a:chOff x="428760" y="3571920"/>
            <a:chExt cx="2408040" cy="2415600"/>
          </a:xfrm>
        </p:grpSpPr>
        <p:sp>
          <p:nvSpPr>
            <p:cNvPr id="216" name="Oval 3"/>
            <p:cNvSpPr/>
            <p:nvPr/>
          </p:nvSpPr>
          <p:spPr>
            <a:xfrm>
              <a:off x="506880" y="3805920"/>
              <a:ext cx="1921680" cy="209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Oval 4"/>
            <p:cNvSpPr/>
            <p:nvPr/>
          </p:nvSpPr>
          <p:spPr>
            <a:xfrm>
              <a:off x="699480" y="4200840"/>
              <a:ext cx="1525320" cy="136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Oval 5"/>
            <p:cNvSpPr/>
            <p:nvPr/>
          </p:nvSpPr>
          <p:spPr>
            <a:xfrm>
              <a:off x="1037880" y="4471560"/>
              <a:ext cx="836640" cy="75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Text Box 6"/>
            <p:cNvSpPr/>
            <p:nvPr/>
          </p:nvSpPr>
          <p:spPr>
            <a:xfrm>
              <a:off x="1230840" y="4632120"/>
              <a:ext cx="56484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6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 10 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 10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Oval 7"/>
            <p:cNvSpPr/>
            <p:nvPr/>
          </p:nvSpPr>
          <p:spPr>
            <a:xfrm>
              <a:off x="1342800" y="541008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1137960" y="3695760"/>
              <a:ext cx="204840" cy="233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631960" y="357192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2326680" y="463212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Oval 11"/>
            <p:cNvSpPr/>
            <p:nvPr/>
          </p:nvSpPr>
          <p:spPr>
            <a:xfrm>
              <a:off x="2326680" y="498744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Oval 12"/>
            <p:cNvSpPr/>
            <p:nvPr/>
          </p:nvSpPr>
          <p:spPr>
            <a:xfrm>
              <a:off x="428760" y="45698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Oval 13"/>
            <p:cNvSpPr/>
            <p:nvPr/>
          </p:nvSpPr>
          <p:spPr>
            <a:xfrm>
              <a:off x="428760" y="49874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Oval 14"/>
            <p:cNvSpPr/>
            <p:nvPr/>
          </p:nvSpPr>
          <p:spPr>
            <a:xfrm>
              <a:off x="1230120" y="57524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1545840" y="5752440"/>
              <a:ext cx="204840" cy="233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cxnSp>
          <p:nvCxnSpPr>
            <p:cNvPr id="229" name="AutoShape 16"/>
            <p:cNvCxnSpPr/>
            <p:nvPr/>
          </p:nvCxnSpPr>
          <p:spPr>
            <a:xfrm flipH="1">
              <a:off x="1625400" y="3805560"/>
              <a:ext cx="1006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30" name="AutoShape 16"/>
          <p:cNvCxnSpPr/>
          <p:nvPr/>
        </p:nvCxnSpPr>
        <p:spPr>
          <a:xfrm>
            <a:off x="2714760" y="4642920"/>
            <a:ext cx="10720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31" name="Group 17"/>
          <p:cNvGrpSpPr/>
          <p:nvPr/>
        </p:nvGrpSpPr>
        <p:grpSpPr>
          <a:xfrm>
            <a:off x="4357440" y="3642840"/>
            <a:ext cx="3944880" cy="2653560"/>
            <a:chOff x="4357440" y="3642840"/>
            <a:chExt cx="3944880" cy="2653560"/>
          </a:xfrm>
        </p:grpSpPr>
        <p:sp>
          <p:nvSpPr>
            <p:cNvPr id="232" name="Oval 18"/>
            <p:cNvSpPr/>
            <p:nvPr/>
          </p:nvSpPr>
          <p:spPr>
            <a:xfrm>
              <a:off x="4871880" y="3763440"/>
              <a:ext cx="2060640" cy="226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Oval 19"/>
            <p:cNvSpPr/>
            <p:nvPr/>
          </p:nvSpPr>
          <p:spPr>
            <a:xfrm>
              <a:off x="5077800" y="4190760"/>
              <a:ext cx="1635840" cy="147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Oval 20"/>
            <p:cNvSpPr/>
            <p:nvPr/>
          </p:nvSpPr>
          <p:spPr>
            <a:xfrm>
              <a:off x="5440680" y="4483440"/>
              <a:ext cx="897120" cy="81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Oval 22"/>
            <p:cNvSpPr/>
            <p:nvPr/>
          </p:nvSpPr>
          <p:spPr>
            <a:xfrm>
              <a:off x="5769000" y="5499000"/>
              <a:ext cx="21780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Oval 23"/>
            <p:cNvSpPr/>
            <p:nvPr/>
          </p:nvSpPr>
          <p:spPr>
            <a:xfrm>
              <a:off x="5550480" y="364320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7" name="Oval 24"/>
            <p:cNvSpPr/>
            <p:nvPr/>
          </p:nvSpPr>
          <p:spPr>
            <a:xfrm>
              <a:off x="5986080" y="364320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Oval 25"/>
            <p:cNvSpPr/>
            <p:nvPr/>
          </p:nvSpPr>
          <p:spPr>
            <a:xfrm>
              <a:off x="6823440" y="465732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9" name="Oval 26"/>
            <p:cNvSpPr/>
            <p:nvPr/>
          </p:nvSpPr>
          <p:spPr>
            <a:xfrm>
              <a:off x="6823440" y="504324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Oval 27"/>
            <p:cNvSpPr/>
            <p:nvPr/>
          </p:nvSpPr>
          <p:spPr>
            <a:xfrm>
              <a:off x="4787640" y="4591440"/>
              <a:ext cx="218520" cy="252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Oval 28"/>
            <p:cNvSpPr/>
            <p:nvPr/>
          </p:nvSpPr>
          <p:spPr>
            <a:xfrm>
              <a:off x="4787640" y="504324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2" name="Oval 29"/>
            <p:cNvSpPr/>
            <p:nvPr/>
          </p:nvSpPr>
          <p:spPr>
            <a:xfrm>
              <a:off x="5648040" y="587088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3" name="Oval 30"/>
            <p:cNvSpPr/>
            <p:nvPr/>
          </p:nvSpPr>
          <p:spPr>
            <a:xfrm>
              <a:off x="6035400" y="587088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Oval 31"/>
            <p:cNvSpPr/>
            <p:nvPr/>
          </p:nvSpPr>
          <p:spPr>
            <a:xfrm>
              <a:off x="5816520" y="4126680"/>
              <a:ext cx="218520" cy="252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cxnSp>
          <p:nvCxnSpPr>
            <p:cNvPr id="245" name="AutoShape 32"/>
            <p:cNvCxnSpPr/>
            <p:nvPr/>
          </p:nvCxnSpPr>
          <p:spPr>
            <a:xfrm flipH="1">
              <a:off x="4357440" y="3642840"/>
              <a:ext cx="720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6" name="AutoShape 33"/>
            <p:cNvCxnSpPr/>
            <p:nvPr/>
          </p:nvCxnSpPr>
          <p:spPr>
            <a:xfrm>
              <a:off x="4357440" y="3643200"/>
              <a:ext cx="1080" cy="2652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7" name="AutoShape 34"/>
            <p:cNvCxnSpPr/>
            <p:nvPr/>
          </p:nvCxnSpPr>
          <p:spPr>
            <a:xfrm>
              <a:off x="4357440" y="6295680"/>
              <a:ext cx="8816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8" name="AutoShape 35"/>
            <p:cNvCxnSpPr/>
            <p:nvPr/>
          </p:nvCxnSpPr>
          <p:spPr>
            <a:xfrm>
              <a:off x="6932880" y="3642840"/>
              <a:ext cx="7128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9" name="AutoShape 36"/>
            <p:cNvCxnSpPr/>
            <p:nvPr/>
          </p:nvCxnSpPr>
          <p:spPr>
            <a:xfrm>
              <a:off x="7644600" y="3643200"/>
              <a:ext cx="1080" cy="25610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50" name="AutoShape 37"/>
            <p:cNvCxnSpPr/>
            <p:nvPr/>
          </p:nvCxnSpPr>
          <p:spPr>
            <a:xfrm flipH="1">
              <a:off x="7041240" y="6203160"/>
              <a:ext cx="603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51" name="AutoShape 38"/>
            <p:cNvCxnSpPr/>
            <p:nvPr/>
          </p:nvCxnSpPr>
          <p:spPr>
            <a:xfrm flipH="1">
              <a:off x="7877160" y="4068360"/>
              <a:ext cx="42552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sp>
        <p:nvSpPr>
          <p:cNvPr id="252" name="Text Box 6"/>
          <p:cNvSpPr/>
          <p:nvPr/>
        </p:nvSpPr>
        <p:spPr>
          <a:xfrm>
            <a:off x="5651640" y="4653000"/>
            <a:ext cx="56484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  <a:ea typeface="Arial"/>
              </a:rPr>
              <a:t>N 10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  <a:ea typeface="Arial"/>
              </a:rPr>
              <a:t>P 10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5:15:11Z</dcterms:created>
  <dc:creator>David Wesley Hoover</dc:creator>
  <dc:description/>
  <dc:language>en-US</dc:language>
  <cp:lastModifiedBy>LEGION</cp:lastModifiedBy>
  <dcterms:modified xsi:type="dcterms:W3CDTF">2017-01-26T09:19:11Z</dcterms:modified>
  <cp:revision>21</cp:revision>
  <dc:subject/>
  <dc:title>Bohr Diagrams of Ions</dc:title>
</cp:coreProperties>
</file>